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C2B-7280-4ADD-B090-D701909A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2C0-7442-46CD-A2F1-B19944BE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F3B-B9D3-4011-829A-62FEA6C3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DF7-4CA6-4D39-AE17-65A455A7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4F90C-BAC2-43C1-A639-161B0B5F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952A6-09C5-4F40-932D-04345A32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6F1E0-8BA0-4887-A534-E49F6EC2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9881B-EC6A-415D-995E-819AAF9F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88B8A-827E-4BD2-BB54-6B0E7CB4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D35E4-36C2-4B0F-A403-0EA9B633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9E726-66A0-4312-A9E3-F23F0BC0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7D5-6E08-4826-B18D-4763826F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C2489-17FE-44DE-8E68-3A30009A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E0B2D-81CF-4D10-8B42-2BC08D43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A47C0-DC95-4DB8-841A-08384AAB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CBCE6-E368-435A-AF8B-F481532B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81C8F-18EC-4E02-8B10-19C0A6B6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4C6-10FB-4470-A276-6A794466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C54-B8E1-4538-80CA-789443FF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202-429C-46E5-9735-B79E6F65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CE8-A470-435D-A36E-792268DB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ACB-D810-4F27-95AF-7262B57B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440-2CEC-4595-99B7-533815E9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381-8B77-48C4-8B37-98C8E150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188b0"/>
                </a:gs>
                <a:gs pos="100000">
                  <a:srgbClr val="4c3d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23e51"/>
                </a:gs>
                <a:gs pos="100000">
                  <a:srgbClr val="918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743d78"/>
              </a:gs>
              <a:gs pos="100000">
                <a:srgbClr val="9188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d548f"/>
                </a:gs>
                <a:gs pos="100000">
                  <a:srgbClr val="3d00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b3d80"/>
                </a:gs>
                <a:gs pos="100000">
                  <a:srgbClr val="3d00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e0d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CB00-8778-4B34-84D6-5577D66872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188b0"/>
                </a:gs>
                <a:gs pos="100000">
                  <a:srgbClr val="4c3d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23e51"/>
                </a:gs>
                <a:gs pos="100000">
                  <a:srgbClr val="918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743d78"/>
              </a:gs>
              <a:gs pos="100000">
                <a:srgbClr val="9188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d548f"/>
                </a:gs>
                <a:gs pos="100000">
                  <a:srgbClr val="3d00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b3d80"/>
                </a:gs>
                <a:gs pos="100000">
                  <a:srgbClr val="3d00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e0d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6706-272D-4750-A494-8B5FA87C4A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de0d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e0d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Bodoni MT Black"/>
              </a:rPr>
              <a:t>Mi mansiõn 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aa00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Por Alon Efr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0555 C 0.01042 0.00809 0.02396 0.00902 0.03715 0.01179 C 0.0441 0.01318 0.04149 0.01457 0.04653 0.01804 C 0.04965 0.02012 0.05556 0.02081 0.05833 0.02128 C 0.06458 0.02382 0.06927 0.02914 0.07361 0.03539 C 0.075 0.04048 0.07708 0.04418 0.0783 0.0495 C 0.08021 0.06939 0.08212 0.08859 0.08299 0.10895 C 0.08108 0.12676 0.08229 0.1337 0.07014 0.14041 C 0.06892 0.14503 0.06354 0.15267 0.05955 0.1529 C 0.00747 0.15498 -0.04479 0.15498 -0.09687 0.15591 C -0.12431 0.16516 -0.13802 0.20217 -0.15937 0.22345 C -0.16372 0.23224 -0.16441 0.23409 -0.16632 0.24381 C -0.16476 0.26555 -0.16667 0.27851 -0.15816 0.29539 C -0.15139 0.32454 -0.15937 0.29886 -0.14514 0.32361 C -0.14271 0.32755 -0.14149 0.3331 -0.13924 0.33772 C -0.1316 0.35345 -0.1276 0.35669 -0.1158 0.37219 C -0.10608 0.38514 -0.10573 0.3826 -0.09115 0.39116 C -0.08767 0.39324 -0.08056 0.3974 -0.08056 0.39764 E">
                                      <p:cBhvr>
                                        <p:cTn id="1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ff"/>
                                </p:to>
                              </p:animCl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48 0.00602 C 0.15521 0.01111 0.15955 0.01689 0.16597 0.02013 C 0.17205 0.03054 0.17448 0.0421 0.17778 0.05459 C 0.1809 0.08698 0.18715 0.13417 0.16128 0.15198 C 0.15156 0.16979 0.14913 0.16864 0.13194 0.17072 C 0.12569 0.17373 0.12135 0.17419 0.11424 0.17534 C 0.02535 0.17373 -0.06285 0.16864 -0.15156 0.17072 C -0.15608 0.17373 -0.16042 0.17465 -0.16458 0.17858 C -0.16302 0.21559 -0.16198 0.25261 -0.16111 0.28985 C -0.15156 0.28568 -0.14462 0.27643 -0.13403 0.2725 C -0.10052 0.26001 -0.03698 0.26116 -0.0092 0.26001 C -0.00885 0.26255 -0.00816 0.2651 -0.00816 0.26787 C -0.0099 0.41245 -0.0349 0.37243 0.09549 0.37451 C 0.09774 0.37544 0.10122 0.37474 0.10243 0.37752 C 0.10434 0.38215 0.1033 0.38793 0.10365 0.39325 C 0.10417 0.4032 0.10382 0.41314 0.10486 0.42309 C 0.10573 0.43165 0.10799 0.43974 0.10955 0.44807 C 0.17135 0.4409 0.27274 0.42795 0.30938 0.44807 C 0.3309 0.4601 0.31007 0.51076 0.31076 0.54222 C 0.34913 0.5295 0.39514 0.53297 0.4342 0.53112 C 0.42587 0.48254 0.42344 0.43072 0.41059 0.38376 C 0.41007 0.37891 0.40556 0.37312 0.40816 0.36965 C 0.41007 0.36734 0.41285 0.36688 0.41545 0.36665 C 0.44253 0.3648 0.46962 0.36456 0.4967 0.36341 C 0.49375 0.12191 0.54358 0.16864 0.39757 0.16285 C 0.38872 0.16262 0.38038 0.1617 0.37188 0.16123 C 0.37587 0.0428 0.37413 0.11428 0.37517 -0.05343 C 0.39184 -0.05204 0.40434 -0.04788 0.42014 -0.04418 C 0.42778 -0.04233 0.46337 -0.04094 0.46372 -0.04094 C 0.48021 -0.0414 0.49653 -0.04163 0.51302 -0.04256 C 0.51424 -0.04256 0.51667 -0.04418 0.51667 -0.04395 E">
                                      <p:cBhvr>
                                        <p:cTn id="30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 un comedor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 comedor. Es muy nuevo y magnif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5105520" cy="328140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Rot by="21600000">
                                      <p:cBhvr>
                                        <p:cTn id="2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Rot by="43200000">
                                      <p:cBhvr>
                                        <p:cTn id="26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e0dc"/>
                </a:solidFill>
                <a:latin typeface="Arial"/>
              </a:rPr>
              <a:t>Es un mansi</a:t>
            </a:r>
            <a:r>
              <a:rPr b="0" lang="en-US" sz="5400" spc="-1" strike="noStrike">
                <a:solidFill>
                  <a:srgbClr val="dde0dc"/>
                </a:solidFill>
                <a:latin typeface="Arial"/>
                <a:ea typeface="Arial"/>
              </a:rPr>
              <a:t>õ</a:t>
            </a:r>
            <a:r>
              <a:rPr b="0" lang="en-US" sz="5400" spc="-1" strike="noStrike">
                <a:solidFill>
                  <a:srgbClr val="dde0dc"/>
                </a:solidFill>
                <a:latin typeface="Arial"/>
              </a:rPr>
              <a:t>n.</a:t>
            </a:r>
            <a:br>
              <a:rPr sz="5400"/>
            </a:br>
            <a:r>
              <a:rPr b="0" lang="en-US" sz="2000" spc="-1" strike="noStrike">
                <a:solidFill>
                  <a:srgbClr val="dde0dc"/>
                </a:solidFill>
                <a:latin typeface="Arial"/>
              </a:rPr>
              <a:t>Es un mansi</a:t>
            </a:r>
            <a:r>
              <a:rPr b="0" lang="en-US" sz="2000" spc="-1" strike="noStrike">
                <a:solidFill>
                  <a:srgbClr val="dde0dc"/>
                </a:solidFill>
                <a:latin typeface="Arial"/>
                <a:ea typeface="Arial"/>
              </a:rPr>
              <a:t>õ</a:t>
            </a:r>
            <a:r>
              <a:rPr b="0" lang="en-US" sz="2000" spc="-1" strike="noStrike">
                <a:solidFill>
                  <a:srgbClr val="dde0dc"/>
                </a:solidFill>
                <a:latin typeface="Arial"/>
              </a:rPr>
              <a:t>n. Es muy grande y fabuloso.</a:t>
            </a:r>
            <a:endParaRPr b="0" lang="en-US" sz="2000" spc="-1" strike="noStrike">
              <a:solidFill>
                <a:srgbClr val="dde0d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660920" cy="2797200"/>
          </a:xfrm>
          <a:prstGeom prst="rect">
            <a:avLst/>
          </a:prstGeom>
          <a:ln w="0">
            <a:noFill/>
          </a:ln>
        </p:spPr>
      </p:pic>
    </p:spTree>
  </p:cSld>
  <p:transition advTm="6000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9" repeatCount="2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Es un Ba</a:t>
            </a:r>
            <a:r>
              <a:rPr b="0" lang="en-US" sz="4400" spc="-1" strike="noStrike">
                <a:solidFill>
                  <a:srgbClr val="b3edff"/>
                </a:solidFill>
                <a:latin typeface="Arial"/>
                <a:ea typeface="Arial"/>
              </a:rPr>
              <a:t>ñ</a:t>
            </a: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 b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. Es muy estupendo y moder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562360" cy="3613320"/>
          </a:xfrm>
          <a:prstGeom prst="rect">
            <a:avLst/>
          </a:prstGeom>
          <a:ln w="0">
            <a:noFill/>
          </a:ln>
        </p:spPr>
      </p:pic>
    </p:spTree>
  </p:cSld>
  <p:transition advTm="12000">
    <p:cover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remove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00">
                                      <p:cBhvr>
                                        <p:cTn id="5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Es un cocina.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cocina. Es muy moderna y magnif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Best black and white kitchens : 13 Best kitchen design ideas"/>
          <p:cNvPicPr/>
          <p:nvPr/>
        </p:nvPicPr>
        <p:blipFill>
          <a:blip r:embed="rId1"/>
          <a:stretch/>
        </p:blipFill>
        <p:spPr>
          <a:xfrm>
            <a:off x="1905120" y="2362320"/>
            <a:ext cx="5105160" cy="3549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7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8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 un garaje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garaje. Es muy lujoso y nue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791320" cy="3886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newsflash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3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5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6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0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0)"/>
                                      </p:to>
                                    </p:set>
                                    <p:set>
                                      <p:cBhvr>
                                        <p:cTn id="119" dur="10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0)"/>
                                      </p:to>
                                    </p:set>
                                    <p:set>
                                      <p:cBhvr>
                                        <p:cTn id="120" dur="10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 un dormitorio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 dormitorio.Es muy fabuloso y gra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791320" cy="3232080"/>
          </a:xfrm>
          <a:prstGeom prst="rect">
            <a:avLst/>
          </a:prstGeom>
          <a:ln w="0">
            <a:noFill/>
          </a:ln>
        </p:spPr>
      </p:pic>
    </p:spTree>
  </p:cSld>
  <p:transition advTm="7000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Es un jard</a:t>
            </a:r>
            <a:r>
              <a:rPr b="0" lang="en-US" sz="4400" spc="-1" strike="noStrike">
                <a:solidFill>
                  <a:srgbClr val="c6ccd4"/>
                </a:solidFill>
                <a:latin typeface="Arial"/>
                <a:ea typeface="Arial"/>
              </a:rPr>
              <a:t>ĩ</a:t>
            </a:r>
            <a:r>
              <a:rPr b="0" lang="en-US" sz="4400" spc="-1" strike="noStrike">
                <a:solidFill>
                  <a:srgbClr val="c6ccd4"/>
                </a:solidFill>
                <a:latin typeface="Arial"/>
              </a:rPr>
              <a:t>n.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j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 Es muy bello y magnif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5619600" cy="37432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newsflash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Rot by="43200000">
                                      <p:cBhvr>
                                        <p:cTn id="17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Es un patio.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patio. Es muy lujoso y boni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newsflash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nimRot by="43200000">
                                      <p:cBhvr>
                                        <p:cTn id="20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e0dc"/>
                </a:solidFill>
                <a:latin typeface="Arial"/>
              </a:rPr>
              <a:t>Es un sala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sala. Es muy incredible y mod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648320" cy="33861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heel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Rot by="21600000">
                                      <p:cBhvr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animRot by="43200000">
                                      <p:cBhvr>
                                        <p:cTn id="23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4:38:26Z</dcterms:created>
  <dc:creator>efronialo</dc:creator>
  <dc:description/>
  <dc:language>en-US</dc:language>
  <cp:lastModifiedBy>efronialo</cp:lastModifiedBy>
  <dcterms:modified xsi:type="dcterms:W3CDTF">2012-10-25T18:06:37Z</dcterms:modified>
  <cp:revision>6</cp:revision>
  <dc:subject/>
  <dc:title>Mi masiõn </dc:title>
</cp:coreProperties>
</file>